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7552-8AD2-4A11-9F97-3FCDFD66B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7D4C-245C-4E39-A479-BEC97A6C3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C054-63F0-436A-AF23-8303E6370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198A-C0D6-4BCD-8B7F-C646C4BA3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E746D-86E4-4A99-9221-ED53B283E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4E3DE-FCC5-4E35-9148-295BA97C9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2F826-C235-4569-8D58-C806E2930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E7449-6396-41F0-BFDB-A0A6610A5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EF05E-5FFD-4EB4-ABC4-C428071CD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A0F91-EBD4-4852-B6B1-03443EBA4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2AFF6-6380-47FC-8B3E-A9AB0510C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A9AD-94EA-4044-9B7A-5B26207CE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6EC39-D534-4C84-9A60-FD8AD710E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57117-F5CB-45BE-B10A-081E5359C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34E82-77CA-4A94-BC22-691CFDA84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F4512-D5DF-44DA-9C1C-D01CF7999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77909-610E-4042-874D-8A1DACA64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BB329-5636-4D08-B1C3-7654C42D8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38F31-A962-4377-86BA-A296D2670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0A186-44AF-430B-ACF0-1D0909C44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5E742-4B2F-41A7-8BCB-B68A9B6D5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C05DB-EC93-497C-89CC-F6A3D986E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0BA9-97DD-4B18-BACD-AFA481580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A44318-2B09-4C98-BE1F-6586C9D13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E7683-06AD-4343-81C9-A26923E2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34ED3-9657-4F23-B054-28540824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94E32-5DC0-4372-8C8D-C9FBF98EE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19CE7-2E5C-4FB1-B94E-C9B754275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84D38-E3B9-4712-AB69-9C538C208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7CF65-5E64-4FD9-8D57-0201ACD1D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5E5902-F85A-45F2-8460-24581FA95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C077D-5028-4747-A3C6-0BE6EABF1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7D034-86D9-4973-B770-ABE2A2BE1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7187-4466-4195-9940-453E7CB22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803C8-1D1D-498B-BBDA-A810765E9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EEC50-93A6-4D1F-9447-974B76A74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742B3-C5D1-437A-A7EF-20B326679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83A53-3318-4C0F-B4D8-AB688E9D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ED7675-0FCB-4365-B87A-D3E78BABB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DF6E9-50BD-42C2-A0F5-E85A0A2A5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F65CC-EFAB-4794-89A6-BC5228E81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BE5BC-C26D-4C65-B438-C1B5EE39D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7B9D9-9C9E-4EA4-909B-05DFEE1E1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0DDC9D-B2FE-4201-9A39-E0C3288D0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AAB5-C939-49E9-ACD2-5A120A3DA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18EF5F-85A7-4E75-B172-06488F11E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FFBBE4-D19F-429B-ABD2-5B3328795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5B04D0-636D-4AB9-9287-C86C48A06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BD78E-ACFC-4B6A-9170-3AB33764F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385F7C-BDC8-44D8-8973-3994B529F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C50424-1951-41F2-AFB3-C8A595D8B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78CDAE-15A6-4246-AF71-9AF8D8379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83A588-89AA-42BD-9D76-BE840B5E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2F6B45-A0EA-4982-B3C5-C4CF9096E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19230F-FDB7-4F67-B532-4F12DA502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8BB2-3B97-442A-B077-24EA4C089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07C17-7F6B-415C-A7CF-A36B4DBBC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F2D1-F905-439C-A818-2FD614268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B51C-D215-4A5C-B271-E2D126F93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9B71-DE64-4D67-A10F-01BEABC3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99965-0024-468B-AA07-FF6AA399DE37}" type="datetime3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July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4FB5B-5EC2-4774-A71B-30178D0E10C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Freeform 9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59422-A4B2-4EBF-A905-C02E94ABAAFB}" type="datetime3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July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6F21D-89E3-4FE9-9F1E-DEFFC6F9A72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Right Triangle 9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46946-1148-4FF9-81B5-26F1CB621E0D}" type="datetime3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July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15B34-640C-493D-8C45-17F8B61F8B4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Right Triangle 9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585F6-4173-4851-8E12-0CDF51185608}" type="datetime3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July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DB6CA-261F-421E-819E-BF5E2B55CB8E}" type="slidenum">
              <a:rPr b="0" lang="en-US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EE43D-4F2F-487E-8DF0-862BD66A8D05}" type="datetime3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July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CECC6-F4A5-43AC-841A-EFC8FFC3BDB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jeopardylabs.com/play/unit-2-review24" TargetMode="External"/><Relationship Id="rId2" Type="http://schemas.openxmlformats.org/officeDocument/2006/relationships/hyperlink" Target="http://www.superteachertools.com/jeopardy/usergames/Apr201216/game1334595708.php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quia.com/hm/181561.html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 rot="19140000">
            <a:off x="817200" y="1729800"/>
            <a:ext cx="5648400" cy="120492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évision unité 2 et 3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 rot="19140000">
            <a:off x="1212480" y="2469960"/>
            <a:ext cx="6510240" cy="3301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Youpi!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 rot="19140000">
            <a:off x="671040" y="1717200"/>
            <a:ext cx="5486400" cy="8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???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39" name="Picture Placeholder 4" descr="crime scene.jpg"/>
          <p:cNvPicPr/>
          <p:nvPr/>
        </p:nvPicPr>
        <p:blipFill>
          <a:blip r:embed="rId1"/>
          <a:srcRect l="6652" t="15985" r="6458" b="0"/>
          <a:stretch/>
        </p:blipFill>
        <p:spPr>
          <a:xfrm>
            <a:off x="2416320" y="1239840"/>
            <a:ext cx="4444920" cy="3560760"/>
          </a:xfrm>
          <a:prstGeom prst="rect">
            <a:avLst/>
          </a:prstGeom>
          <a:ln w="0">
            <a:noFill/>
          </a:ln>
        </p:spPr>
      </p:pic>
      <p:sp>
        <p:nvSpPr>
          <p:cNvPr id="240" name="PlaceHolder 2"/>
          <p:cNvSpPr>
            <a:spLocks noGrp="1"/>
          </p:cNvSpPr>
          <p:nvPr>
            <p:ph/>
          </p:nvPr>
        </p:nvSpPr>
        <p:spPr>
          <a:xfrm rot="19140000">
            <a:off x="1142640" y="2180520"/>
            <a:ext cx="6097680" cy="73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Franklin Gothic Book"/>
              </a:rPr>
              <a:t>descendre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pull dir="l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 rot="19140000">
            <a:off x="671040" y="1717200"/>
            <a:ext cx="5486400" cy="8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???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42" name="Picture Placeholder 4" descr="crime scene.jpg"/>
          <p:cNvPicPr/>
          <p:nvPr/>
        </p:nvPicPr>
        <p:blipFill>
          <a:blip r:embed="rId1"/>
          <a:stretch/>
        </p:blipFill>
        <p:spPr>
          <a:xfrm>
            <a:off x="2075040" y="1038240"/>
            <a:ext cx="5203800" cy="319104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2"/>
          <p:cNvSpPr>
            <a:spLocks noGrp="1"/>
          </p:cNvSpPr>
          <p:nvPr>
            <p:ph/>
          </p:nvPr>
        </p:nvSpPr>
        <p:spPr>
          <a:xfrm rot="19140000">
            <a:off x="1142640" y="2180520"/>
            <a:ext cx="6097680" cy="73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0000"/>
                </a:solidFill>
                <a:latin typeface="Franklin Gothic Book"/>
              </a:rPr>
              <a:t>les écailles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cover dir="l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 rot="19140000">
            <a:off x="671040" y="1717200"/>
            <a:ext cx="5486400" cy="8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???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45" name="Picture Placeholder 4" descr="crime scene.jpg"/>
          <p:cNvPicPr/>
          <p:nvPr/>
        </p:nvPicPr>
        <p:blipFill>
          <a:blip r:embed="rId1"/>
          <a:stretch/>
        </p:blipFill>
        <p:spPr>
          <a:xfrm>
            <a:off x="3073320" y="1149480"/>
            <a:ext cx="2924280" cy="304164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2"/>
          <p:cNvSpPr>
            <a:spLocks noGrp="1"/>
          </p:cNvSpPr>
          <p:nvPr>
            <p:ph/>
          </p:nvPr>
        </p:nvSpPr>
        <p:spPr>
          <a:xfrm rot="19140000">
            <a:off x="1142640" y="2180520"/>
            <a:ext cx="6097680" cy="73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0000"/>
                </a:solidFill>
                <a:latin typeface="Franklin Gothic Book"/>
              </a:rPr>
              <a:t>les griffes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dissolve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 rot="19140000">
            <a:off x="671040" y="1717200"/>
            <a:ext cx="5486400" cy="8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???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48" name="Picture Placeholder 4" descr="crime scene.jpg"/>
          <p:cNvPicPr/>
          <p:nvPr/>
        </p:nvPicPr>
        <p:blipFill>
          <a:blip r:embed="rId1"/>
          <a:stretch/>
        </p:blipFill>
        <p:spPr>
          <a:xfrm>
            <a:off x="1792440" y="1100160"/>
            <a:ext cx="5486400" cy="343836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2"/>
          <p:cNvSpPr>
            <a:spLocks noGrp="1"/>
          </p:cNvSpPr>
          <p:nvPr>
            <p:ph/>
          </p:nvPr>
        </p:nvSpPr>
        <p:spPr>
          <a:xfrm rot="19140000">
            <a:off x="1142640" y="2180520"/>
            <a:ext cx="6097680" cy="73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0000"/>
                </a:solidFill>
                <a:latin typeface="Franklin Gothic Book"/>
              </a:rPr>
              <a:t>les jumeaux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checker dir="horz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 rot="19140000">
            <a:off x="671040" y="1717200"/>
            <a:ext cx="5486400" cy="8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???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51" name="Picture Placeholder 4" descr="crime scene.jpg"/>
          <p:cNvPicPr/>
          <p:nvPr/>
        </p:nvPicPr>
        <p:blipFill>
          <a:blip r:embed="rId1"/>
          <a:srcRect l="47691" t="37637" r="0" b="0"/>
          <a:stretch/>
        </p:blipFill>
        <p:spPr>
          <a:xfrm>
            <a:off x="2400480" y="619200"/>
            <a:ext cx="4244760" cy="418140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2"/>
          <p:cNvSpPr>
            <a:spLocks noGrp="1"/>
          </p:cNvSpPr>
          <p:nvPr>
            <p:ph/>
          </p:nvPr>
        </p:nvSpPr>
        <p:spPr>
          <a:xfrm rot="19140000">
            <a:off x="1142640" y="2180520"/>
            <a:ext cx="6097680" cy="73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0000"/>
                </a:solidFill>
                <a:latin typeface="Franklin Gothic Book"/>
              </a:rPr>
              <a:t>les poils/poilu(e)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blinds dir="vert"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 rot="19140000">
            <a:off x="671040" y="1717200"/>
            <a:ext cx="5486400" cy="8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???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54" name="Picture Placeholder 4" descr="crime scene.jpg"/>
          <p:cNvPicPr/>
          <p:nvPr/>
        </p:nvPicPr>
        <p:blipFill>
          <a:blip r:embed="rId1"/>
          <a:stretch/>
        </p:blipFill>
        <p:spPr>
          <a:xfrm>
            <a:off x="1792440" y="938160"/>
            <a:ext cx="5486400" cy="367668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2"/>
          <p:cNvSpPr>
            <a:spLocks noGrp="1"/>
          </p:cNvSpPr>
          <p:nvPr>
            <p:ph/>
          </p:nvPr>
        </p:nvSpPr>
        <p:spPr>
          <a:xfrm rot="19140000">
            <a:off x="1142640" y="2180520"/>
            <a:ext cx="6097680" cy="73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0000"/>
                </a:solidFill>
                <a:latin typeface="Franklin Gothic Book"/>
              </a:rPr>
              <a:t>un loup-garou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wheel spokes="1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 rot="19140000">
            <a:off x="671040" y="1717200"/>
            <a:ext cx="5486400" cy="8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???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57" name="Picture Placeholder 4" descr="crime scene.jpg"/>
          <p:cNvPicPr/>
          <p:nvPr/>
        </p:nvPicPr>
        <p:blipFill>
          <a:blip r:embed="rId1"/>
          <a:stretch/>
        </p:blipFill>
        <p:spPr>
          <a:xfrm>
            <a:off x="2689200" y="938160"/>
            <a:ext cx="3692520" cy="367668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2"/>
          <p:cNvSpPr>
            <a:spLocks noGrp="1"/>
          </p:cNvSpPr>
          <p:nvPr>
            <p:ph/>
          </p:nvPr>
        </p:nvSpPr>
        <p:spPr>
          <a:xfrm rot="19140000">
            <a:off x="1142640" y="2180520"/>
            <a:ext cx="6097680" cy="73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0000"/>
                </a:solidFill>
                <a:latin typeface="Franklin Gothic Book"/>
              </a:rPr>
              <a:t>les oreilles pointues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wheel spokes="1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 rot="19140000">
            <a:off x="671040" y="1717200"/>
            <a:ext cx="5486400" cy="8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???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60" name="Picture Placeholder 4" descr="crime scene.jpg"/>
          <p:cNvPicPr/>
          <p:nvPr/>
        </p:nvPicPr>
        <p:blipFill>
          <a:blip r:embed="rId1"/>
          <a:stretch/>
        </p:blipFill>
        <p:spPr>
          <a:xfrm>
            <a:off x="1792440" y="950760"/>
            <a:ext cx="5486400" cy="36514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2"/>
          <p:cNvSpPr>
            <a:spLocks noGrp="1"/>
          </p:cNvSpPr>
          <p:nvPr>
            <p:ph/>
          </p:nvPr>
        </p:nvSpPr>
        <p:spPr>
          <a:xfrm rot="19140000">
            <a:off x="1142640" y="2180520"/>
            <a:ext cx="6097680" cy="73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0000"/>
                </a:solidFill>
                <a:latin typeface="Franklin Gothic Book"/>
              </a:rPr>
              <a:t>une patte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fade/>
  </p:transition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 rot="19140000">
            <a:off x="671040" y="1717200"/>
            <a:ext cx="5486400" cy="8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???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63" name="Picture Placeholder 4" descr="crime scene.jpg"/>
          <p:cNvPicPr/>
          <p:nvPr/>
        </p:nvPicPr>
        <p:blipFill>
          <a:blip r:embed="rId1"/>
          <a:stretch/>
        </p:blipFill>
        <p:spPr>
          <a:xfrm>
            <a:off x="2022480" y="950760"/>
            <a:ext cx="5025960" cy="365148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2"/>
          <p:cNvSpPr>
            <a:spLocks noGrp="1"/>
          </p:cNvSpPr>
          <p:nvPr>
            <p:ph/>
          </p:nvPr>
        </p:nvSpPr>
        <p:spPr>
          <a:xfrm rot="19140000">
            <a:off x="1142640" y="2180520"/>
            <a:ext cx="6097680" cy="73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0000"/>
                </a:solidFill>
                <a:latin typeface="Franklin Gothic Book"/>
              </a:rPr>
              <a:t>la queue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fade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 rot="19140000">
            <a:off x="671040" y="1717200"/>
            <a:ext cx="5486400" cy="8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???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66" name="Picture Placeholder 4" descr="crime scene.jpg"/>
          <p:cNvPicPr/>
          <p:nvPr/>
        </p:nvPicPr>
        <p:blipFill>
          <a:blip r:embed="rId1"/>
          <a:stretch/>
        </p:blipFill>
        <p:spPr>
          <a:xfrm>
            <a:off x="2131920" y="1166760"/>
            <a:ext cx="4807080" cy="318780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2"/>
          <p:cNvSpPr>
            <a:spLocks noGrp="1"/>
          </p:cNvSpPr>
          <p:nvPr>
            <p:ph/>
          </p:nvPr>
        </p:nvSpPr>
        <p:spPr>
          <a:xfrm rot="19140000">
            <a:off x="1142640" y="2180520"/>
            <a:ext cx="6097680" cy="73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Franklin Gothic Book"/>
              </a:rPr>
              <a:t>un</a:t>
            </a:r>
            <a:r>
              <a:rPr b="1" lang="fr-CA" sz="2800" spc="-1" strike="noStrike">
                <a:solidFill>
                  <a:srgbClr val="ff0000"/>
                </a:solidFill>
                <a:latin typeface="Franklin Gothic Book"/>
              </a:rPr>
              <a:t> maquilleur/le maquilleur en chef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fade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242640"/>
            <a:ext cx="75218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haracters in Cris et Frisson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822240" y="790560"/>
            <a:ext cx="7521840" cy="42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Réginald: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directeur de Logi-clique, toujours poli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il manque d’argent et risque de perdre sa compagni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Il a fais des voyages secret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Fernand: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Génie de l’informatique </a:t>
            </a:r>
            <a:r>
              <a:rPr b="1" lang="fr-CA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 Vaniteux, ambitieux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Veux contrôler la compagni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Il a développé des jeux électronique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Cyrill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Gardien de sécurité, très sérieux, brusque, et très désagréabl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Les employés n’ont pas une vie privée au travail </a:t>
            </a:r>
            <a:r>
              <a:rPr b="1" lang="fr-CA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 il les surveille tout le temp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2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2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2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 rot="19140000">
            <a:off x="671040" y="1717200"/>
            <a:ext cx="5486400" cy="8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???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69" name="Picture Placeholder 4" descr="crime scene.jpg"/>
          <p:cNvPicPr/>
          <p:nvPr/>
        </p:nvPicPr>
        <p:blipFill>
          <a:blip r:embed="rId1"/>
          <a:stretch/>
        </p:blipFill>
        <p:spPr>
          <a:xfrm>
            <a:off x="2664000" y="790560"/>
            <a:ext cx="3825720" cy="401004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2"/>
          <p:cNvSpPr>
            <a:spLocks noGrp="1"/>
          </p:cNvSpPr>
          <p:nvPr>
            <p:ph/>
          </p:nvPr>
        </p:nvSpPr>
        <p:spPr>
          <a:xfrm rot="19140000">
            <a:off x="1142640" y="2180520"/>
            <a:ext cx="6097680" cy="73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0000"/>
                </a:solidFill>
                <a:latin typeface="Franklin Gothic Book"/>
              </a:rPr>
              <a:t>une vedette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fade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 rot="19140000">
            <a:off x="671040" y="1717200"/>
            <a:ext cx="5486400" cy="8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???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72" name="Picture Placeholder 4" descr="crime scene.jpg"/>
          <p:cNvPicPr/>
          <p:nvPr/>
        </p:nvPicPr>
        <p:blipFill>
          <a:blip r:embed="rId1"/>
          <a:stretch/>
        </p:blipFill>
        <p:spPr>
          <a:xfrm>
            <a:off x="2386080" y="1006560"/>
            <a:ext cx="4583160" cy="357804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2"/>
          <p:cNvSpPr>
            <a:spLocks noGrp="1"/>
          </p:cNvSpPr>
          <p:nvPr>
            <p:ph/>
          </p:nvPr>
        </p:nvSpPr>
        <p:spPr>
          <a:xfrm rot="19140000">
            <a:off x="1142640" y="2180520"/>
            <a:ext cx="6097680" cy="73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0000"/>
                </a:solidFill>
                <a:latin typeface="Franklin Gothic Book"/>
              </a:rPr>
              <a:t>mouler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fade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 rot="19140000">
            <a:off x="671040" y="1717200"/>
            <a:ext cx="5486400" cy="8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???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75" name="Picture Placeholder 4" descr="crime scene.jpg"/>
          <p:cNvPicPr/>
          <p:nvPr/>
        </p:nvPicPr>
        <p:blipFill>
          <a:blip r:embed="rId1"/>
          <a:stretch/>
        </p:blipFill>
        <p:spPr>
          <a:xfrm>
            <a:off x="2935440" y="1166760"/>
            <a:ext cx="3200400" cy="3187800"/>
          </a:xfrm>
          <a:prstGeom prst="rect">
            <a:avLst/>
          </a:prstGeom>
          <a:ln w="0">
            <a:noFill/>
          </a:ln>
        </p:spPr>
      </p:pic>
      <p:sp>
        <p:nvSpPr>
          <p:cNvPr id="276" name="PlaceHolder 2"/>
          <p:cNvSpPr>
            <a:spLocks noGrp="1"/>
          </p:cNvSpPr>
          <p:nvPr>
            <p:ph/>
          </p:nvPr>
        </p:nvSpPr>
        <p:spPr>
          <a:xfrm rot="19140000">
            <a:off x="1142640" y="2180520"/>
            <a:ext cx="6097680" cy="73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0000"/>
                </a:solidFill>
                <a:latin typeface="Franklin Gothic Book"/>
              </a:rPr>
              <a:t>naître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fade/>
  </p:transition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 rot="19140000">
            <a:off x="671040" y="1717200"/>
            <a:ext cx="5486400" cy="8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???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 rot="19140000">
            <a:off x="1142640" y="2180520"/>
            <a:ext cx="6097680" cy="73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0000"/>
                </a:solidFill>
                <a:latin typeface="Franklin Gothic Book"/>
              </a:rPr>
              <a:t>la peau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279" name="Picture Placeholder 6" descr="un bruit.jpeg"/>
          <p:cNvPicPr/>
          <p:nvPr/>
        </p:nvPicPr>
        <p:blipFill>
          <a:blip r:embed="rId1"/>
          <a:stretch/>
        </p:blipFill>
        <p:spPr>
          <a:xfrm>
            <a:off x="1803240" y="612720"/>
            <a:ext cx="546444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 rot="19140000">
            <a:off x="671040" y="1717200"/>
            <a:ext cx="5486400" cy="8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???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81" name="Picture Placeholder 4" descr="crime scene.jpg"/>
          <p:cNvPicPr/>
          <p:nvPr/>
        </p:nvPicPr>
        <p:blipFill>
          <a:blip r:embed="rId1"/>
          <a:stretch/>
        </p:blipFill>
        <p:spPr>
          <a:xfrm>
            <a:off x="2087640" y="1251000"/>
            <a:ext cx="4714920" cy="354960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2"/>
          <p:cNvSpPr>
            <a:spLocks noGrp="1"/>
          </p:cNvSpPr>
          <p:nvPr>
            <p:ph/>
          </p:nvPr>
        </p:nvSpPr>
        <p:spPr>
          <a:xfrm rot="19140000">
            <a:off x="1142640" y="2180520"/>
            <a:ext cx="6097680" cy="73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0000"/>
                </a:solidFill>
                <a:latin typeface="Franklin Gothic Book"/>
              </a:rPr>
              <a:t>tomber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fade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 rot="19140000">
            <a:off x="671040" y="1717200"/>
            <a:ext cx="5486400" cy="8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???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84" name="Picture Placeholder 4" descr="crime scene.jpg"/>
          <p:cNvPicPr/>
          <p:nvPr/>
        </p:nvPicPr>
        <p:blipFill>
          <a:blip r:embed="rId1"/>
          <a:stretch/>
        </p:blipFill>
        <p:spPr>
          <a:xfrm>
            <a:off x="2076480" y="1251000"/>
            <a:ext cx="4738680" cy="354960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2"/>
          <p:cNvSpPr>
            <a:spLocks noGrp="1"/>
          </p:cNvSpPr>
          <p:nvPr>
            <p:ph/>
          </p:nvPr>
        </p:nvSpPr>
        <p:spPr>
          <a:xfrm rot="19140000">
            <a:off x="1142640" y="2180520"/>
            <a:ext cx="6097680" cy="73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0000"/>
                </a:solidFill>
                <a:latin typeface="Franklin Gothic Book"/>
              </a:rPr>
              <a:t>la pleine lune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fade/>
  </p:transition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 rot="19140000">
            <a:off x="671040" y="1717200"/>
            <a:ext cx="5486400" cy="8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???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87" name="Picture Placeholder 4" descr="crime scene.jpg"/>
          <p:cNvPicPr/>
          <p:nvPr/>
        </p:nvPicPr>
        <p:blipFill>
          <a:blip r:embed="rId1"/>
          <a:stretch/>
        </p:blipFill>
        <p:spPr>
          <a:xfrm>
            <a:off x="2076480" y="1251000"/>
            <a:ext cx="4738680" cy="35496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2"/>
          <p:cNvSpPr>
            <a:spLocks noGrp="1"/>
          </p:cNvSpPr>
          <p:nvPr>
            <p:ph/>
          </p:nvPr>
        </p:nvSpPr>
        <p:spPr>
          <a:xfrm rot="19140000">
            <a:off x="1142640" y="2180520"/>
            <a:ext cx="6097680" cy="73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0000"/>
                </a:solidFill>
                <a:latin typeface="Franklin Gothic Book"/>
              </a:rPr>
              <a:t>un requin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fade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 rot="19140000">
            <a:off x="671040" y="1717200"/>
            <a:ext cx="5486400" cy="8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???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90" name="Picture Placeholder 4" descr="crime scene.jpg"/>
          <p:cNvPicPr/>
          <p:nvPr/>
        </p:nvPicPr>
        <p:blipFill>
          <a:blip r:embed="rId1"/>
          <a:stretch/>
        </p:blipFill>
        <p:spPr>
          <a:xfrm>
            <a:off x="2257560" y="1251000"/>
            <a:ext cx="4375080" cy="354960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2"/>
          <p:cNvSpPr>
            <a:spLocks noGrp="1"/>
          </p:cNvSpPr>
          <p:nvPr>
            <p:ph/>
          </p:nvPr>
        </p:nvSpPr>
        <p:spPr>
          <a:xfrm rot="19140000">
            <a:off x="1142640" y="2180520"/>
            <a:ext cx="6097680" cy="73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0000"/>
                </a:solidFill>
                <a:latin typeface="Franklin Gothic Book"/>
              </a:rPr>
              <a:t>un réalisateur/ un cinéaste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fade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6" dur="5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 rot="19140000">
            <a:off x="671040" y="1717200"/>
            <a:ext cx="5486400" cy="8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???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93" name="Picture Placeholder 4" descr="crime scene.jpg"/>
          <p:cNvPicPr/>
          <p:nvPr/>
        </p:nvPicPr>
        <p:blipFill>
          <a:blip r:embed="rId1"/>
          <a:stretch/>
        </p:blipFill>
        <p:spPr>
          <a:xfrm>
            <a:off x="2257560" y="1649520"/>
            <a:ext cx="4375080" cy="275256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2"/>
          <p:cNvSpPr>
            <a:spLocks noGrp="1"/>
          </p:cNvSpPr>
          <p:nvPr>
            <p:ph/>
          </p:nvPr>
        </p:nvSpPr>
        <p:spPr>
          <a:xfrm rot="19140000">
            <a:off x="1142640" y="2180520"/>
            <a:ext cx="6097680" cy="73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0000"/>
                </a:solidFill>
                <a:latin typeface="Franklin Gothic Book"/>
              </a:rPr>
              <a:t>les effets spéciaux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fade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22240" y="91800"/>
            <a:ext cx="75218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haracters in cris et frisson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22240" y="639360"/>
            <a:ext cx="7521840" cy="45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Mei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Intelligente, superficielle, vaniteus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Elle achète impulsivement beaucoup d’articles très cher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Sonia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La meilleure programmeus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Solitaire, réservée, introverti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Employé modèl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Manu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Il n’est plus enthousiast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Ses idées n’ont pas eu de succè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Il est trist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push dir="u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2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2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2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Verbes suivis d’une préposition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822240" y="1099800"/>
            <a:ext cx="7521840" cy="38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500" spc="-1" strike="noStrike">
                <a:solidFill>
                  <a:srgbClr val="000000"/>
                </a:solidFill>
                <a:latin typeface="Franklin Gothic Book"/>
              </a:rPr>
              <a:t>Rempli les tirets suivants:</a:t>
            </a: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500" spc="-1" strike="noStrike">
                <a:solidFill>
                  <a:srgbClr val="000000"/>
                </a:solidFill>
                <a:latin typeface="Franklin Gothic Book"/>
              </a:rPr>
              <a:t>Nous décidons ______  commencer par le bureau de Réginald.</a:t>
            </a:r>
            <a:br>
              <a:rPr sz="1500"/>
            </a:br>
            <a:br>
              <a:rPr sz="1500"/>
            </a:br>
            <a:r>
              <a:rPr b="1" lang="fr-CA" sz="15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500" spc="-1" strike="noStrike">
                <a:solidFill>
                  <a:srgbClr val="000000"/>
                </a:solidFill>
                <a:latin typeface="Franklin Gothic Book"/>
              </a:rPr>
              <a:t>Vous devez _____ parler à l’inspecteur.</a:t>
            </a:r>
            <a:br>
              <a:rPr sz="1500"/>
            </a:br>
            <a:br>
              <a:rPr sz="1500"/>
            </a:br>
            <a:r>
              <a:rPr b="1" lang="fr-CA" sz="15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500" spc="-1" strike="noStrike">
                <a:solidFill>
                  <a:srgbClr val="000000"/>
                </a:solidFill>
                <a:latin typeface="Franklin Gothic Book"/>
              </a:rPr>
              <a:t>Ils apprennent _____ voler les bijoux.</a:t>
            </a: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500" spc="-1" strike="noStrike">
                <a:solidFill>
                  <a:srgbClr val="000000"/>
                </a:solidFill>
                <a:latin typeface="Franklin Gothic Book"/>
              </a:rPr>
              <a:t>On essayer _____ récupérer les informations.</a:t>
            </a:r>
            <a:br>
              <a:rPr sz="1500"/>
            </a:br>
            <a:br>
              <a:rPr sz="1500"/>
            </a:br>
            <a:r>
              <a:rPr b="1" lang="fr-CA" sz="15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500" spc="-1" strike="noStrike">
                <a:solidFill>
                  <a:srgbClr val="000000"/>
                </a:solidFill>
                <a:latin typeface="Franklin Gothic Book"/>
              </a:rPr>
              <a:t>Je continue _____ chercher.</a:t>
            </a:r>
            <a:br>
              <a:rPr sz="1500"/>
            </a:br>
            <a:r>
              <a:rPr b="1" lang="fr-CA" sz="15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" name="TextBox 3"/>
          <p:cNvSpPr/>
          <p:nvPr/>
        </p:nvSpPr>
        <p:spPr>
          <a:xfrm>
            <a:off x="2543040" y="1608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Franklin Gothic Book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4" name="TextBox 4"/>
          <p:cNvSpPr/>
          <p:nvPr/>
        </p:nvSpPr>
        <p:spPr>
          <a:xfrm>
            <a:off x="2345400" y="44118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à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5" name="TextBox 5"/>
          <p:cNvSpPr/>
          <p:nvPr/>
        </p:nvSpPr>
        <p:spPr>
          <a:xfrm>
            <a:off x="2226960" y="36878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6" name="TextBox 6"/>
          <p:cNvSpPr/>
          <p:nvPr/>
        </p:nvSpPr>
        <p:spPr>
          <a:xfrm>
            <a:off x="2497680" y="30733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à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wipe dir="l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Passé composé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22000" y="1100160"/>
            <a:ext cx="814068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Franklin Gothic Book"/>
              </a:rPr>
              <a:t>HV + PP = PC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NEED TWO PARTS ALWAYS!!!!!!!!!!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Passé Composé with </a:t>
            </a:r>
            <a:r>
              <a:rPr b="1" lang="fr-CA" sz="1600" spc="-1" strike="noStrike" u="sng">
                <a:solidFill>
                  <a:srgbClr val="ff0000"/>
                </a:solidFill>
                <a:uFillTx/>
                <a:latin typeface="Franklin Gothic Book"/>
              </a:rPr>
              <a:t>Avoir</a:t>
            </a: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: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515520" indent="-25704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Franklin Gothic Book"/>
              </a:rPr>
              <a:t>Verbes réguliers: </a:t>
            </a: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ER </a:t>
            </a:r>
            <a:r>
              <a:rPr b="1" lang="fr-CA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 É</a:t>
            </a: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IR </a:t>
            </a:r>
            <a:r>
              <a:rPr b="1" lang="fr-CA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 I</a:t>
            </a: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RE </a:t>
            </a:r>
            <a:r>
              <a:rPr b="1" lang="fr-CA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 U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515520" indent="-25704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Not on our irregular list we copied from the overhead? Treat it as a regular verb.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515520" indent="-25704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Verbes irréguliers, including any « compound » verbes (i.e. : commettre, apprendre, souffrir)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515520" indent="-25704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515520" indent="-2570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Passé Composé with </a:t>
            </a:r>
            <a:r>
              <a:rPr b="1" lang="fr-CA" sz="1600" spc="-1" strike="noStrike" u="sng">
                <a:solidFill>
                  <a:srgbClr val="ff0000"/>
                </a:solidFill>
                <a:uFillTx/>
                <a:latin typeface="Franklin Gothic Book"/>
              </a:rPr>
              <a:t>Être</a:t>
            </a: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: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515520" indent="-25704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Verbes réguliers et irréguliers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515520" indent="-25704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LES ACCORDS!!!!    Masc sing: -- RIEN --      fem sing: E      masc pl: S        fem pl: ES</a:t>
            </a: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split dir="out" orient="vert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7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2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7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2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7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2" dur="5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7" dur="500"/>
                                        <p:tgtEl>
                                          <p:spTgt spid="2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2" dur="500"/>
                                        <p:tgtEl>
                                          <p:spTgt spid="2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7" dur="500"/>
                                        <p:tgtEl>
                                          <p:spTgt spid="2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ris et frissons jeopardy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5f5f5f"/>
                </a:solidFill>
                <a:uFillTx/>
                <a:latin typeface="Franklin Gothic Book"/>
                <a:hlinkClick r:id="rId1"/>
              </a:rPr>
              <a:t>http://jeopardylabs.com/play/unit-2-review24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5f5f5f"/>
                </a:solidFill>
                <a:uFillTx/>
                <a:latin typeface="Franklin Gothic Book"/>
                <a:hlinkClick r:id="rId2"/>
              </a:rPr>
              <a:t>http://www.superteachertools.com/jeopardy/usergames/Apr201216/game1334595708.php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fad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Verbes au passé composé avec êtr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L’homme pendu: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5f5f5f"/>
                </a:solidFill>
                <a:uFillTx/>
                <a:latin typeface="Franklin Gothic Book"/>
                <a:hlinkClick r:id="rId1"/>
              </a:rPr>
              <a:t>http://www.quia.com/hm/181561.htm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 rot="19140000">
            <a:off x="817200" y="1729800"/>
            <a:ext cx="5648400" cy="120492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Unité 3 : Les grands monstr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 rot="19140000">
            <a:off x="1212480" y="2469960"/>
            <a:ext cx="6510240" cy="3301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Le vocabulaire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 rot="19140000">
            <a:off x="671040" y="1717200"/>
            <a:ext cx="5486400" cy="866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???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36" name="Picture Placeholder 4" descr="crime scene.jpg"/>
          <p:cNvPicPr/>
          <p:nvPr/>
        </p:nvPicPr>
        <p:blipFill>
          <a:blip r:embed="rId1"/>
          <a:stretch/>
        </p:blipFill>
        <p:spPr>
          <a:xfrm>
            <a:off x="1006560" y="612720"/>
            <a:ext cx="6939000" cy="411480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2"/>
          <p:cNvSpPr>
            <a:spLocks noGrp="1"/>
          </p:cNvSpPr>
          <p:nvPr>
            <p:ph/>
          </p:nvPr>
        </p:nvSpPr>
        <p:spPr>
          <a:xfrm rot="19140000">
            <a:off x="1142640" y="2180520"/>
            <a:ext cx="6097680" cy="73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0000"/>
                </a:solidFill>
                <a:latin typeface="Franklin Gothic Book"/>
              </a:rPr>
              <a:t>les dents pointues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fade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7T03:28:19Z</dcterms:created>
  <dc:creator>Sarah</dc:creator>
  <dc:description/>
  <dc:language>en-US</dc:language>
  <cp:lastModifiedBy>Sarah</cp:lastModifiedBy>
  <dcterms:modified xsi:type="dcterms:W3CDTF">2012-04-27T16:10:34Z</dcterms:modified>
  <cp:revision>13</cp:revision>
  <dc:subject/>
  <dc:title>Révision unité 2 et 3</dc:title>
</cp:coreProperties>
</file>